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3E25-0C5C-494D-AF76-6541A7626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7AAF-BC3E-4649-B228-72FAB391BB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4ACC-6649-4DBC-B98E-68614424AC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01F5-3289-497B-BF78-D08B1ED236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683B-1870-4241-9060-32A7D78092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8617-10A7-4B9C-A39E-F21AAFF4BB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FB4F-BB3A-41A9-82EA-26F1A39C9E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51E5-85B9-4A25-94A2-C20D1A6BC4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B26D-9FED-4923-9CDE-79557E03E3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FCB0-DB69-41EF-BB4F-1E9243D6C4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69F3-EC03-49EA-BDAE-0DC5A8A2F1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1D56-0BE0-423F-9CCA-9A91F90D6F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EC8E-4B88-4FF5-8617-720A976180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8735-D7E1-4DE5-83C1-60D368DBF4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DD4-CD25-4932-87AB-F3828C2E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AF9D-0BDC-4D31-97C4-52FBE451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67F-7315-4630-A288-A14208DB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B5B9-E0A2-4938-B259-7E873358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5ABB-5595-4E47-981D-4254D3AB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FFFD-193A-4F29-8052-AC65D090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DBE0-28D5-4D1C-AAFD-7531FB7A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1727-DCE3-4836-A8EC-3AA9711B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37B6-CC94-4F8F-A25D-6DF55619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A035-3018-450F-95BD-32B981DC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D0EE-7B52-4A56-B4AC-CEF7E5D1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85D-39C5-492C-B358-C7326056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F1FF-82C8-491D-BB7D-1A31C822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AFC6-B92A-4215-A1D3-71723B03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F511-4314-4C6C-8FB5-187A5FCD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4878-4BC4-44E9-B749-AF1FF3E1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214C-A860-42B9-A7F0-4CC74B5B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275-8898-49AC-820F-398AB46E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9C51-88E0-418C-B6C4-F48164D1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03B7-7928-4941-A9EF-D5EAF787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78DC-DDC4-4A19-A79E-7582909C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48C-B297-4655-A6C9-27A85CED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4BD-7EE0-43C3-BCD3-D8B943D5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C700-5506-47DF-8C1B-06306DC4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32E4-A7E8-467C-A113-4BBA1C2D77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8DD8-CF9C-4A52-91C8-11E365CB03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3/Thor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701208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Myths, Legends, and </a:t>
            </a:r>
            <a:br>
              <a:rPr sz="6600"/>
            </a:b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Fairy Tales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0120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66"/>
                </a:solidFill>
                <a:latin typeface="Arial"/>
              </a:rPr>
              <a:t>Fairy Tales</a:t>
            </a:r>
            <a:endParaRPr b="0" lang="en-US" sz="9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Fairy Tal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ctional sto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at may feature characters such as fairies, goblins, elves, trolls, witches, giants, or talking anim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involves 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r-fetch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equence of 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7" descr="Image:Dore ridinghood.jpg"/>
          <p:cNvPicPr/>
          <p:nvPr/>
        </p:nvPicPr>
        <p:blipFill>
          <a:blip r:embed="rId1"/>
          <a:stretch/>
        </p:blipFill>
        <p:spPr>
          <a:xfrm>
            <a:off x="990720" y="1981080"/>
            <a:ext cx="3200400" cy="41148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1143000" y="6248520"/>
            <a:ext cx="28954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Little Red Riding Hood”  illustration by Gustave Do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Fairy Tal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usuall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 connec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religion or actual places, persons, or 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take plac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"once upon a time"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ther than in actual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ld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airy tales were intended for adults as well as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7" descr="Image:Redsun.jpg"/>
          <p:cNvPicPr/>
          <p:nvPr/>
        </p:nvPicPr>
        <p:blipFill>
          <a:blip r:embed="rId1"/>
          <a:stretch/>
        </p:blipFill>
        <p:spPr>
          <a:xfrm>
            <a:off x="1130400" y="1981080"/>
            <a:ext cx="321300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114300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Ivan Bilibin’s illustration of the Russian fairy tale about “Vasilissa the Beautiful”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amous Fairy Ta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inderel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ittle Red Riding H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leeping Beau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now White and the Seven Dwarv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0120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66"/>
                </a:solidFill>
                <a:latin typeface="Arial"/>
              </a:rPr>
              <a:t>Myths</a:t>
            </a:r>
            <a:endParaRPr b="0" lang="en-US" sz="9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Myth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the Greek wor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yth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eaning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"word of mout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dely thought to b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c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igins of the wor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r how the world and the creatures in it came to be in their present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7" descr="Image:Tho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828800"/>
            <a:ext cx="3168360" cy="4419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914400" y="62485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Thor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, the god of Norse mythology. "Tors strid med jättarna" (1872), painting by Marten Eskil Winge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Myth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ly are abou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ods and hero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often said to take plac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fore recorded history beg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early times, myths were consider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cr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religiously tr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7" descr="Medusa_by_Carvaggio"/>
          <p:cNvPicPr/>
          <p:nvPr/>
        </p:nvPicPr>
        <p:blipFill>
          <a:blip r:embed="rId1"/>
          <a:stretch/>
        </p:blipFill>
        <p:spPr>
          <a:xfrm>
            <a:off x="685800" y="2092320"/>
            <a:ext cx="3809880" cy="38908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762120" y="6019920"/>
            <a:ext cx="373356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Medusa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by Caravaggio, rotella (tournament shield). Oil on canvas mounted on wood, dated from 1592 to 1600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amous Myth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 Twelve Labors of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ercu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heseu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escaping the labyrinth and killing the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inota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reation Myths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om many cultures/religions around the wor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 snake-headed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Medus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0120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66"/>
                </a:solidFill>
                <a:latin typeface="Arial"/>
              </a:rPr>
              <a:t>Legends</a:t>
            </a:r>
            <a:endParaRPr b="0" lang="en-US" sz="9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Legend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Latin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egend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ing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"things to be rea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ends ar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lievab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lthough not necessarily belie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xagger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tories of real people or events from his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7" descr="Image:Townsend Lloyd K - Atlantis.jpg"/>
          <p:cNvPicPr/>
          <p:nvPr/>
        </p:nvPicPr>
        <p:blipFill>
          <a:blip r:embed="rId1"/>
          <a:stretch/>
        </p:blipFill>
        <p:spPr>
          <a:xfrm>
            <a:off x="917640" y="1981080"/>
            <a:ext cx="334476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914400" y="6172200"/>
            <a:ext cx="312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tlantis” illustration by Lloyd K. Townsend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Legend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19360" y="19810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ends are about someone wh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robabl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id exist but have been twisted to seem mor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teres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ascin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 fabulous stories that hav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me historical ba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in characters in legends are ofte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spected and remember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y people, despite passing away several centuries a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7" descr="Image:Artus2.jpg"/>
          <p:cNvPicPr/>
          <p:nvPr/>
        </p:nvPicPr>
        <p:blipFill>
          <a:blip r:embed="rId1"/>
          <a:stretch/>
        </p:blipFill>
        <p:spPr>
          <a:xfrm>
            <a:off x="1447920" y="1981080"/>
            <a:ext cx="244944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1219320" y="6248520"/>
            <a:ext cx="28954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King Arthur” by Peter Vischer in Hofkirche (Innsbruck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amous Legen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ing Arthu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and the Knights of the Round T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obin Hood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robbing from the rich to give to the po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 legend of the lost city of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tlant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 quest for the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oly Gr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9:24:59Z</dcterms:created>
  <dc:creator>Cody Edwards</dc:creator>
  <dc:description/>
  <dc:language>en-US</dc:language>
  <cp:lastModifiedBy>Angela Roundy</cp:lastModifiedBy>
  <dcterms:modified xsi:type="dcterms:W3CDTF">2008-10-11T06:35:08Z</dcterms:modified>
  <cp:revision>10</cp:revision>
  <dc:subject/>
  <dc:title>Myths, Legends, and Fairytales</dc:title>
</cp:coreProperties>
</file>